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8F16-BA42-4B84-9079-9F21C86FD5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CC0-8635-4776-AAD9-DC8D9093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8DE-0AAD-4DCF-B648-D6817F7F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117-EBA5-455D-AFCC-B0849DE2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9B0-CF47-4693-B49E-7D904209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8F3-B212-488C-A4AA-F2AA1404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ADE-69C4-423C-9FA4-077B252B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107-AF01-4352-A262-02A86F39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D4C-36F9-4351-94C5-50865737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EFB-4637-48EC-97B2-F182645C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1A0-2874-4DE1-9BDE-3F7E3488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7E1-93C1-4A0D-9543-73E087A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F64-84F9-499E-A885-A74320BC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6C59-272D-42A0-89EC-6AE4776302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Місце для нижнього колонтитула 3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Longshore Dri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44792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1600200" y="36576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190512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205740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2209680" y="33526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2514600" y="32004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2666880" y="31240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8195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" name="Line 2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1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3252960" y="3048120"/>
            <a:ext cx="99720" cy="299880"/>
          </a:xfrm>
          <a:custGeom>
            <a:avLst/>
            <a:gdLst/>
            <a:ahLst/>
            <a:rect l="l" t="t" r="r" b="b"/>
            <a:pathLst>
              <a:path w="63" h="189">
                <a:moveTo>
                  <a:pt x="63" y="0"/>
                </a:moveTo>
                <a:lnTo>
                  <a:pt x="0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3208320" y="3048120"/>
            <a:ext cx="144360" cy="380880"/>
          </a:xfrm>
          <a:custGeom>
            <a:avLst/>
            <a:gdLst/>
            <a:ahLst/>
            <a:rect l="l" t="t" r="r" b="b"/>
            <a:pathLst>
              <a:path w="91" h="240">
                <a:moveTo>
                  <a:pt x="91" y="0"/>
                </a:move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2"/>
          <p:cNvSpPr/>
          <p:nvPr/>
        </p:nvSpPr>
        <p:spPr>
          <a:xfrm>
            <a:off x="3174840" y="3048120"/>
            <a:ext cx="177840" cy="465120"/>
          </a:xfrm>
          <a:custGeom>
            <a:avLst/>
            <a:gdLst/>
            <a:ahLst/>
            <a:rect l="l" t="t" r="r" b="b"/>
            <a:pathLst>
              <a:path w="112" h="293">
                <a:moveTo>
                  <a:pt x="112" y="0"/>
                </a:move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3137040" y="3048120"/>
            <a:ext cx="215640" cy="561960"/>
          </a:xfrm>
          <a:custGeom>
            <a:avLst/>
            <a:gdLst/>
            <a:ahLst/>
            <a:rect l="l" t="t" r="r" b="b"/>
            <a:pathLst>
              <a:path w="136" h="354">
                <a:moveTo>
                  <a:pt x="136" y="0"/>
                </a:move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2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2"/>
          <p:cNvSpPr/>
          <p:nvPr/>
        </p:nvSpPr>
        <p:spPr>
          <a:xfrm>
            <a:off x="3033720" y="3048120"/>
            <a:ext cx="318960" cy="833400"/>
          </a:xfrm>
          <a:custGeom>
            <a:avLst/>
            <a:gdLst/>
            <a:ahLst/>
            <a:rect l="l" t="t" r="r" b="b"/>
            <a:pathLst>
              <a:path w="201" h="525">
                <a:moveTo>
                  <a:pt x="201" y="0"/>
                </a:moveTo>
                <a:lnTo>
                  <a:pt x="0" y="5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295280" y="373356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1"/>
          <p:cNvSpPr/>
          <p:nvPr/>
        </p:nvSpPr>
        <p:spPr>
          <a:xfrm>
            <a:off x="327672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8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327672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9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3"/>
          <p:cNvSpPr/>
          <p:nvPr/>
        </p:nvSpPr>
        <p:spPr>
          <a:xfrm>
            <a:off x="32767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3124080" y="32767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3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13"/>
          <p:cNvSpPr/>
          <p:nvPr/>
        </p:nvSpPr>
        <p:spPr>
          <a:xfrm>
            <a:off x="304812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4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297180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7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0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0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13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 flipV="1">
            <a:off x="3124080" y="34290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4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048120" y="38098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320040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2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3352680" y="36576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3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5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95280" y="3352680"/>
            <a:ext cx="1067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5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5"/>
          <p:cNvSpPr/>
          <p:nvPr/>
        </p:nvSpPr>
        <p:spPr>
          <a:xfrm>
            <a:off x="365760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3809880" y="34290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8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15"/>
          <p:cNvSpPr/>
          <p:nvPr/>
        </p:nvSpPr>
        <p:spPr>
          <a:xfrm>
            <a:off x="3962520" y="33526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9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1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15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2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1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9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3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0" name="Line 1027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28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9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30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1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2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3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4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RomaK</cp:lastModifiedBy>
  <dcterms:modified xsi:type="dcterms:W3CDTF">2015-09-04T09:43:39Z</dcterms:modified>
  <cp:revision>21</cp:revision>
  <dc:subject/>
  <dc:title>Longshore</dc:title>
</cp:coreProperties>
</file>